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9DD-3BF7-4731-BAC0-06FF9ABD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E4B-581C-42C6-A34A-8054E076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98E-9730-480F-94D1-5D90277E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FED9-3F1F-46D5-980F-A08265F0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232-4888-4D2D-8F8B-D44B7DE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57C-44F2-4882-9977-3FE61D15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1BB-50A5-4BEC-9297-76DB538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50DC-216C-4372-AC92-19E9BA40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7A5-A72D-4755-BA93-A2C1BF88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84F7-573D-4147-82C5-7203405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E8D-9FC3-4A7B-8D45-D86A121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59D-B8F8-4A4A-9D57-EEF45105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281B-72AD-4604-B9DC-2657584F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81080" y="4800600"/>
            <a:ext cx="51818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 - 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Elev</cp:lastModifiedBy>
  <dcterms:modified xsi:type="dcterms:W3CDTF">2012-06-18T11:41:02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